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AF9-6361-4FB0-97F6-14CD6046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C5B-7A7E-4A3A-937A-102D9C28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976-A46E-4E3D-B5D1-530E83C2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E42-FEE7-4A4D-86F3-D7716439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97CA-3548-4913-8040-23C81822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479C-D090-452B-A9F0-563FBE8F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FFF7-F170-4955-B84F-377EDA1C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FF7D-C679-44AD-8557-35B1B2E2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596C-9019-4C61-9062-8D79186A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4543-415A-4A56-9EE3-09B7381D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2462-1A5E-4A0D-9068-10358FC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5A9-ABE5-4A9F-8441-A0FAF30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DE51-46C1-4D1B-851B-D725ECC1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2E1A-303D-4FC2-BF23-94EB7161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0859-807D-4C57-8BA3-363B1F89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B6C7-F1B5-4C94-BBCE-D291709A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0E89-AAC4-4673-A48A-F9DF0E31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E65-FC69-493B-BBD9-A61C1BB8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23E-5037-4D11-B60F-3972E500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3B8-BBF6-485B-9449-7EACF140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8E0-2ADD-4BFD-82E3-389C8E68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93C-72C9-44BD-A93D-4939851A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0B8-14EF-4100-8CAA-D2E479A9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211-EBFC-4EB0-8A6D-3CB6A641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D18B-F46B-4371-83EE-4044D3F7C7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E9D3-9316-4F14-B01C-C70603B294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quest of the La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38280" y="358092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, Lesson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. 7:1 – 9: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ages 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335268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ut, let’s review first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Israel cross the Jordan riv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emorials were set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wo important events occurred at Gilg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as Jericho defeat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as Raha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 does she play la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1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Sin of Acha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7:1-26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defeated at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 Israelites kille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-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son: S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1-1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 to find the “accursed” ma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3-1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han, and all his possessions, destroy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9-2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at did Achan tak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81080"/>
            <a:ext cx="3657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feat of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8:1-29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 to take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1-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of Ai ambushed by Israel – none escap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9-2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i destroyed by fi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23-2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g of Ai hang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29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at was Joshua doing during the battl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6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rael Claims the La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8:30-35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shua builds an alta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0-3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w of Moses written on the ston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2-3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w read to ALL the peop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4-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ere was the ark at this tim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member: Deut. 27:1-14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743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5638680"/>
            <a:ext cx="38098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ntral Campaign is completed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87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2895120" y="1752480"/>
            <a:ext cx="2590920" cy="2743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403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057400"/>
            <a:ext cx="380988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ceit of the Gibeoni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9:1-27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gs gather to fight Isra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-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beonites strategy to deceive Joshu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3-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shua and the elders fall for the story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6-14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made a treaty with the Gibeonit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13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H="1">
            <a:off x="2895120" y="1752480"/>
            <a:ext cx="2590920" cy="2743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03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2057400"/>
            <a:ext cx="38098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ceit of the Gibeoni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9:1-27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learns of the deceit but honors the trea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6-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beonites becomes servants to Isra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21-2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y was it wrong to make a treaty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5-05-26T22:15:54Z</dcterms:modified>
  <cp:revision>30</cp:revision>
  <dc:subject/>
  <dc:title>Joshua: The New Leader</dc:title>
</cp:coreProperties>
</file>